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14A-6217-4243-851C-38B0922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528-849F-42A3-9E30-156AC916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7C6-7860-45A9-88C5-82F2AD05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2A4-839B-4DC6-A088-9A20CB1D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C829E-BF78-456B-8152-8580A96D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F6012-ED7D-4B1D-A4E2-7D2FE887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2FD3-ECDC-49B8-8AB3-AF9C5E6C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B99BF-A897-47A8-894F-684C5BBF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1404D-BDF0-400C-AF9D-4611FD4A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8CE13-EC0F-4095-93B5-5DCE4085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A3670-AEA2-4EDE-8B02-D2C5183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FE9-8E58-4D2F-AF4A-4970A216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320AF-ED62-4FD7-929E-458BB51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29C4-EFB6-4CFE-A250-3D9D08E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DAEE-B733-4943-990F-963FE0B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BBB21-CEEA-4D48-AEFC-719632B9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033F-8008-476C-9506-3802F0BD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478-7A34-4E4C-977E-DB60D89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B17-0A8E-47A7-8611-2B67082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826-74F0-4391-A34D-FCADB58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671-179D-411F-B030-E3AEF3C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1E6-17D7-4098-9204-A7FC6C7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491-BC83-450E-A59D-832A256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C2E-A120-48FA-892E-818D99F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B17-B9EC-42B3-8E0B-04A30921F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AA8-D6C6-43BA-AF83-3E7CEA709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209680" y="3809880"/>
            <a:ext cx="4419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r : Antonio Sever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52880" y="3672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572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14520" y="2133720"/>
            <a:ext cx="6114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l mansion y grande,lujoso,bell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457200"/>
            <a:ext cx="78487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nx for whaching!!!!!!!!!!!!!!!!!!!!!!!!!!!!!!!!!!!!!</a:t>
            </a:r>
            <a:endParaRPr b="1" i="1" lang="en-US" sz="4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057400" y="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coci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82880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 una coc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5562720" cy="317844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495680" cy="2219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3520" y="152280"/>
            <a:ext cx="6248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l come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666880"/>
            <a:ext cx="381024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 una come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0"/>
            <a:ext cx="3048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sal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4114440" y="3809880"/>
            <a:ext cx="3124440" cy="26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es una sala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5181480" cy="342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1320" y="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a b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ñ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600" y="3657600"/>
            <a:ext cx="4390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 bano moder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30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05520" y="228600"/>
            <a:ext cx="3448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a cuar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327672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i cuarto fabulo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248520" y="685800"/>
            <a:ext cx="1752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a pati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19480" y="3809880"/>
            <a:ext cx="318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 patio boni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943600" y="457200"/>
            <a:ext cx="1895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una jard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4120" y="4038480"/>
            <a:ext cx="2724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i jarin boni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advTm="5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430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181480" y="228600"/>
            <a:ext cx="3743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a garaj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33720" y="4876920"/>
            <a:ext cx="4628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 garaje impresionante</a:t>
            </a:r>
            <a:endParaRPr b="0" lang="en-US" sz="1800" spc="1" strike="noStrike">
              <a:ln w="9360">
                <a:solidFill>
                  <a:srgbClr val="010199"/>
                </a:solidFill>
                <a:prstDash val="sysDot"/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1:04Z</dcterms:created>
  <dc:creator>severanceant</dc:creator>
  <dc:description/>
  <dc:language>en-US</dc:language>
  <cp:lastModifiedBy>severanceant</cp:lastModifiedBy>
  <dcterms:modified xsi:type="dcterms:W3CDTF">2012-03-16T13:28:54Z</dcterms:modified>
  <cp:revision>4</cp:revision>
  <dc:subject/>
  <dc:title>Slide 1</dc:title>
</cp:coreProperties>
</file>